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2D0-4643-4D43-91ED-CE83C36B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B86-9237-4D28-A0B6-941FBF3B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91A-CA8E-40C7-8CFF-62C2A583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944-E465-4265-9FE1-E8365641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D40-DE89-4F4E-9EC1-4ED81406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54C-4E50-4346-826B-C23F92A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405-734C-4226-BCAD-B5BAE66E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299-BFCF-43F4-8BBF-2E58B43A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649-7851-4B85-8949-7E2AC054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E9A-5781-4274-8EE3-9EC5AB3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DA5-F709-4876-8399-0E93177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F48-2777-4E8A-B5F3-AC539295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9BD4-EBC2-47FB-B826-EB1222B5C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4b"/>
                </a:solidFill>
                <a:latin typeface="Times New Roman"/>
              </a:rPr>
              <a:t>WELCO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4b"/>
                </a:solidFill>
                <a:latin typeface="Times New Roman"/>
              </a:rPr>
              <a:t>t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4b"/>
                </a:solidFill>
                <a:latin typeface="Times New Roman"/>
              </a:rPr>
              <a:t>Back to School Nigh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52680" y="4191120"/>
            <a:ext cx="24004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s or Concern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contact 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my webpage on www.madisonpublicschool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me: 973-593-31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 m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llm@madisonpublicschool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ed most days to practice skills and concepts covered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count toward marking period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0060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r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667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zzes every few days, usually annou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zzes are worth 5 - 7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after each ch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are worth 10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activities worth 50-10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od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 grade is calculated by dividing earned points by possibl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lcula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219320"/>
            <a:ext cx="2514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at all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-84 family of calc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wri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AY to earn extra cre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done perfect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 of the points taken off that problem are  retu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pped at 20 points for AP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609480"/>
            <a:ext cx="4267080" cy="5700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________________________  Date 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iz/Test 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# 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ints off 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Complete explanation of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what I did wro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n this proble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tailed explan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the correct solution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e sure to explain your reasoning and what you know about the underlying concep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Correct solution to the problem, with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ll of my work show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xtra Hel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- Friday: before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- Friday: after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every period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 Statistics periods 1, 2, 4, 5, and 8 by appointment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tutorial is perio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1:13:49Z</dcterms:created>
  <dc:creator>Marcia Prill</dc:creator>
  <dc:description/>
  <dc:language>en-US</dc:language>
  <cp:lastModifiedBy> Marcia Prill</cp:lastModifiedBy>
  <dcterms:modified xsi:type="dcterms:W3CDTF">2010-03-19T15:11:55Z</dcterms:modified>
  <cp:revision>33</cp:revision>
  <dc:subject/>
  <dc:title>WELCOME</dc:title>
</cp:coreProperties>
</file>